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E51-7E9D-45F0-BD98-C1B44BC1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A2B-2436-4D3D-AD0C-6C3AF1D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75E-0BAA-4AB0-B598-E33649D5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26D-B419-4E53-BAE0-4BA867EC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884-6EBE-469A-B229-D1F45DCA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86F-CEA4-4EEE-8A49-80F25E2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73B-0C70-439D-B090-BA02B279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38F-96FF-43C2-81B8-2C0D5DF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CB8-F68B-4811-BAC1-E9171747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E48E-5AC6-467B-8F8C-57027F2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24F0-68F4-40CD-88A6-211EA19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C01-E093-4530-BE41-9BDAC2C6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1A87-C294-4DAF-9215-5A3E7A1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4C19-A65E-4235-B9DA-5BF447D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28A-C297-4DEE-A883-CE94D29C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421-390E-4D26-A91A-C2CD38D1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0920-DCB0-4A8D-A6F8-2E0303FE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E7E-A7DF-4976-8B73-6F411A00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C4D-1AF5-44FF-94E5-9F4B187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18F-FE40-47B7-ACDE-CED0BCD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38E-86D1-4D3D-A1BB-B94035AA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A67-EF6A-4917-BE73-1447E84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19C-3BED-413E-BC28-B7C21ED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76E-81AA-4399-87BB-8A298BB8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1F6-3966-43DC-886B-42BA5640D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1AF5-E48F-4260-93E1-5FA08341A0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692360" y="595008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2117880"/>
            <a:ext cx="5328000" cy="3038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 проводимых работах национальным органом по аккредитации Кыргызстана в области неразрушающего контроля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92360" y="5175360"/>
            <a:ext cx="6134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укулова  А.Д., Астана, октябрь 201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79280" y="530712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6093000"/>
            <a:ext cx="9144000" cy="14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internet.ge/v2/news_images/201005205700.png"/>
          <p:cNvPicPr/>
          <p:nvPr/>
        </p:nvPicPr>
        <p:blipFill>
          <a:blip r:embed="rId1"/>
          <a:stretch/>
        </p:blipFill>
        <p:spPr>
          <a:xfrm>
            <a:off x="5972040" y="174600"/>
            <a:ext cx="28069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50418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НК совместно с другими подкомитетами ТК Лаб разработаны и приняты  более  30 политик и процедур, </a:t>
                      </a: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 предусматривают подходы по аккредитации  лабораторий  неразрушающего контроля и органов контроля по МС ИСО/МЭК 17025, ИСО/МЭК 17020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 актуализируются  с учетом вновь введенных внешних международных и региональных требований), включая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по применению международного стандарта МС ИСО/МЭК 17025 для лаборатор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зрушающего контроля (изд. 3 от 01.08.2015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оводство по применению международного стандарта МС ИСО/МЭК 17025 для лаборатор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механических испытаний  совместно с ПК Ф/М ТК Лаб (изд. 3 от 01.08.2015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варительная оценка Лаборатории (изд.  1 от 01.07.20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ставление Лабораторией заявки на аккредитацию (изд.  12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кспертиза документов по аккредитации  Лаборатории (изд.  4 от 01.02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ка Лаборатории на месте (изд.  12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вторная аккредитация Лабораторий и инспекционный контроль за их деятельностью (изд.  8 от 01.05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50418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ставление органами контроля заявки на аккредитацию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5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кспертиза документов по аккредит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в контроля (изд.  1 от 01.02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ка на месте Органа контро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2 от 20.04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вторная аккредитация Органа контро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спекционный контроль за его дея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2 от 01.05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инятие решения об аккредитации О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11 от 25.04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дление аттестата аккредитации (изд. 11 от 25.04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литика по прослеживаемости результ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й (изд. 7 от  01.02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итика по применению проверочных мероприятий в процессе аккредитации (изд. 4 от  01.06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итика по переходу от применения КМС ГОСТ ИСО/МЭК 17020:2010 к ГОСТ ISO/IEC 17020-2013 и ILAC P15:06/2014  (изд. 1 от 01.05.2015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12840" y="1023840"/>
          <a:ext cx="8496360" cy="5794560"/>
        </p:xfrm>
        <a:graphic>
          <a:graphicData uri="http://schemas.openxmlformats.org/drawingml/2006/table">
            <a:tbl>
              <a:tblPr/>
              <a:tblGrid>
                <a:gridCol w="1224000"/>
                <a:gridCol w="727236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готовка специалистов ООС по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36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учение  и сертифи-кация пер-сонала по методам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бочем месте; внешнее обучение на базе: ООО «Трансвагонсервис» , г. Днепропетровск, ОАО «Запсибгазпром» Омский экзаменационный Центр Отраслевого института «Омскгазтехнология», НОАП НК НИИХИММАШ,  г. Москва  (на  базе института или выездом  специалиста института с проведением обучения на базе лабораторий КР,  Учебный центр РЦ «Стройсертификация» Госстроя КР на базе Российско-Кыргызского Славянского университета (НК методом пластической де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48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ОАП НК «НИИХИММАШ», г. Москва (Единая система оценки соответствия в области промышленной, экологической безопасности, безопасности в энергетике и строительстве), аккредитован  согласно ИСО/МЭК 17024 по ВИК,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Центр сертификации при Украинском обществе НК и технической диагностики, аккредитован в соответствии с ИСО/МЭК 17024 ЕН ИСО 9712 /ИСО 10015 - по ВИК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ихретоковы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магнитный 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ррозонд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зависимый орган по аттестации персонала НК –АНО «СЦНТО «Промбезопасность-Сибирь», аккредитован Свидетельство №НОАП-0028 от 26.12.2013г. по ВИК,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Ц «Стройсертификация» Госстроя КР  аттестация персонала НК методом пластической де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1413000"/>
          <a:ext cx="8496000" cy="506232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готовка специалистов  ООС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028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учение  персонала НК по критериям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 специалистов лабораторий НК и органов контроля по международным стандартам аккредитации: ИСО/МЭК 17020, ИСО/МЭК 170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едущими оценщиками признанных на международном уровне органов по аккредитации: Турецкое агентство по аккредитации (ТУРКАК), Костариканский орган по аккредитации (ЕСО), эксперт Р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65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КЦА по политикам и процедурам аккредитации,  касающимися неразрушающего контроля с 2010 года на систематической основе  в соответствии с установленной программой (8 , 16 часовое обуч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Центра повышения квалификации и профессиональной переподготовки кадров при национальном органе стандартизации и метрологии по МС в области аккредитации  (ИСО/МЭК 17020, ИСО/МЭК 17025, включая политики процедуры аккредитации для лабораторий неразрушающего контроля и органов контроля) согласно 40- часовой програм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413000"/>
          <a:ext cx="8496000" cy="493848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ндартные образцы ООС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300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нтроль оборудования и результатов 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е образцы, полученные вместе с оборудованием для НК с определенным интервалом подтверждается их  приписанные метрологические характеристики (геометрические) в национальном органе по метрологии в соответствии с паспортами данн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С НК разрабатывают и изготавливают испытательные образцы-стандартные образцы предприятия с учетом методов и объектов НК в соответствии с утвержденными   в установленном порядке техническими задания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ьные образцы-стандартные образцы предприятия имеют соответствующие приписанные характеристики от национального органа по метролог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ьные образцы-стандартные образцы предприятия  используются для  проведения контроля качества НК внутри ООС (персонал, объекты контроля, разные единицы оборудова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0446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олитикой КЦА-ПЛ 8 «Область применения ГОСТ ISO/IEC 17020, ГОСТ ИСО/МЭК 17025 и ГОСТ Р ИСО 15189 для аккредитации органов, проводящих инспекции, судебно-экспертных организаций и медицинских лабораторий» и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принципом по применению международных или гармонизированных с международными стандартами требований аккредитац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подтверждении технической компетентности лабораторий неразрушающего контроля  используется МС (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ОСТ ИСО/МЭК 17025-2009 «Общие требования к компетентности испытательных и калибровочных лабораторий», предусматривающий возможность разработки органом аккредитации руководств по его применению в специальных областя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подтверждении технической компетентности органов контроля включая поверочные лаборатории применяется МС (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)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 «Оценка соответствия. Требования к работе различных органов, проводящих инспекции»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413000"/>
          <a:ext cx="8496000" cy="5346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34672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P15:06/2014 Руководство «Применение ISO/IEC 17020:2012 для аккредитации инспекционных органов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международных требованиях:  ГОСТ ИСО/МЭК 17025-2009 (п.5.6.1)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  (п. 6.2.1) установлено, что оборудование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емые для испытани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включая неразрушающий контроль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я параметров окружающей сред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бора образц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акже связанные с услугами по проведению инспекции 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ющ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итель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на точность и достоверность результатов должны быть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алиброваны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вводом в эксплуатац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ходя из этого, пригодность оборудования органов инспекции и лабораторий неразрушающего контроля,  которое не подлежат калибровке  может  быть  установлена  визуальным  осмотром, функциональными  проверками, т.е. поверк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но Порядка предоставления и отзыва права на проведение испытаний средств измерений и (или) аттестации стандартных образцов с целью утверждения типа и (или) поверки средств измер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496000" cy="5346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34672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Calibri"/>
                        </a:rPr>
                        <a:t>июль 2013 г. № 401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– ПП КР об уполномочи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                         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на право поверки С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раво предоставляется сроком на 1 год  Министерством экономики КР (М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ервоначально на базе оценке М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Times New Roman"/>
                        </a:rPr>
                        <a:t>родление только на базе аккредитации по ГОСТ ISO/IEC 17020-2013 и ILAC P15:06/20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состоянию на 20.10.2015 г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национальном реестре  аккредитованных ООС  включены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 органа контроля по ГОСТ ISO/IEC 17020-2013 и ILAC P15:06/2014 в области энергетики, подъемных кра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 лаборатории неразрушающего контроля в области строительства и железнодорожного транспор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1413000"/>
          <a:ext cx="8496000" cy="49813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04468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одятся работы по  подтверждению компетентности  ООС НК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5 ОК, включая неразрушающего контроля по ИСО/МЭК 17020  и 3 поверочные лаборатории, ранее  имеющие право на поверку С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 ОС по сертификации персонала по ИСО/МЭК 17024  в области неразрушающего контроля: вихретоковый, магнитопорошковый, радиографический, ультразвуковой,  визуаль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но ГОСТР 54795-2011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/DI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9712 «Контроль неразрушающий. Квалификация и сертификация персонала. Общие требования » (приказ ЦСМ при МЭ КР от 08.07.2014г. № 40-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водится адаптация систем  менеджмента качества лабораторий неразрушающего контроля для перехода  на МС ИСО/МЭК 17020,  ранее аккредитованных   по МС ИСО/МЭК 17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413000"/>
          <a:ext cx="8496000" cy="515448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50620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46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11.2013г. Кыргызстан в лице КЦА присоединился к многостороннему Соглашению о взаимном признании Международного сотрудничества по аккредитации лабораторий (ILAC) и получил статус полноправного члена ILAC в части аккредитации испытательных лабораторий по международному стандарту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200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енно, КЦА  и аккредитуемые и аккредитованные ООС, включая  должны выполнять требования ILAC помимо критериев, установленных в международных стандартах: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, ГОСТ ИСО/МЭК 17025-2009,  включая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Р9:06/2014 Политика ILAC в отношении участия в мероприятиях профессионального тестирова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 P10: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итика ILAC по прослеживаемости измерени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P13:10/2010 Применение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011 для аккредитации поставщиков профессионального тестирова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38276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КР «Об основах технического регулирования в КР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КР  «Об обеспечении единства измерен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ядок предоставления и отзыва права на проведение испытаний средств измерений и (или) аттестации стандартных образцов с целью утверждения типа и (или) поверки средств измерений юридическим лицам, утвержденный постановлением Правительства Кыргызской Республики  от 4 июля 2013 года № 4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национальной системе аккредитации в КР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Совете по аккредитации ООС - приняты постановлением Правительства КР от 16.11.2006 г. № 7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Кыргызском центре аккредитации -принято постановлением Правительства КР от 05.03.2010г.   № 12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ЦА определен национальным органом по аккредитации ОО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одательная база аккредитации О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KCA logo2"/>
          <p:cNvPicPr/>
          <p:nvPr/>
        </p:nvPicPr>
        <p:blipFill>
          <a:blip r:embed="rId9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800" y="963720"/>
          <a:ext cx="8496360" cy="3824280"/>
        </p:xfrm>
        <a:graphic>
          <a:graphicData uri="http://schemas.openxmlformats.org/drawingml/2006/table">
            <a:tbl>
              <a:tblPr/>
              <a:tblGrid>
                <a:gridCol w="172728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ЦА-ПЛ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органов неразрушающего контроля в проверочных действ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н План мероприятий по реализации Стратегических направлений развития и функционирования национальных программ проверки квалификации на качество испытаний в Кыргызской Республике (2009-2014 гг.), предусматривающий проведение МЛС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д инициативой КЦА  организуются и проводятся  МЛСИ  (до 9 ООС участвуют в области  неразрушающего контроля) образцов сварного стыка трубы различными диаметрами/толщиной   (ВИК, 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 процессе аккредитации  ООС по НК в обязательном порядке проводятся двух  сторонние  сличения с применением испытательных образцов, под наблюдением проведение НК разными лабораториями (персонал, оборудова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324000" y="4581360"/>
          <a:ext cx="8496000" cy="211320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3992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Л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фор-мационн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специальный раздел на сайте КЦА  </a:t>
                      </a:r>
                      <a:r>
                        <a:rPr b="1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ww.kca.gov.k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просам МСИ для обеспечения доступности информации заинтересованным сторон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для поиска ООС, каким образом могут найти Координаторов МСИ по всему миру через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tis.ba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ТК Лаб\ТК по аккр до 2014года\Подкомитеты ТК ЛАБ\подкомитет ТК  Калибровка-Метрология\засед. подкомитет Метрология\подком калибровка  2009г\фото подкомитет\IMG_1794.jpg"/>
          <p:cNvPicPr/>
          <p:nvPr/>
        </p:nvPicPr>
        <p:blipFill>
          <a:blip r:embed="rId1"/>
          <a:stretch/>
        </p:blipFill>
        <p:spPr>
          <a:xfrm>
            <a:off x="476280" y="333360"/>
            <a:ext cx="28130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H:\ТК Лаб\ТК по аккр до 2014года\Подкомитеты ТК ЛАБ\подкомитет ТК  Калибровка-Метрология\засед. подкомитет Метрология\подком калибровка  2009г\фото подкомитет\IMG_1822.jpg"/>
          <p:cNvPicPr/>
          <p:nvPr/>
        </p:nvPicPr>
        <p:blipFill>
          <a:blip r:embed="rId2"/>
          <a:stretch/>
        </p:blipFill>
        <p:spPr>
          <a:xfrm>
            <a:off x="3767040" y="333360"/>
            <a:ext cx="2746440" cy="232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:\ТК Лаб\ТК по аккр до 2014года\заседания ТК ЛАБ\13 засед.ТК (13-3-12) И ПК Метрология (7-3-12)\Фото ТК и пк Метрология 7 от 14.08.12г\IMG_5814.JPG"/>
          <p:cNvPicPr/>
          <p:nvPr/>
        </p:nvPicPr>
        <p:blipFill>
          <a:blip r:embed="rId3"/>
          <a:stretch/>
        </p:blipFill>
        <p:spPr>
          <a:xfrm>
            <a:off x="674640" y="2924280"/>
            <a:ext cx="238464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H:\ТК Лаб\ТК по аккр до 2014года\заседания ТК ЛАБ\13 засед.ТК (13-3-12) И ПК Метрология (7-3-12)\Фото ТК и пк Метрология 7 от 14.08.12г\IMG_5847.JPG"/>
          <p:cNvPicPr/>
          <p:nvPr/>
        </p:nvPicPr>
        <p:blipFill>
          <a:blip r:embed="rId4"/>
          <a:stretch/>
        </p:blipFill>
        <p:spPr>
          <a:xfrm>
            <a:off x="6508800" y="3213000"/>
            <a:ext cx="2598840" cy="2459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:\ТК Лаб\ТК по аккр до 2014года\заседания ТК ЛАБ\16-1-13 внеочер. зад. ТК и  10-1-13 ПК метрология\фото 16 заседания ТК и ПК Метрология\100_FUJI\DSCF0028.JPG"/>
          <p:cNvPicPr/>
          <p:nvPr/>
        </p:nvPicPr>
        <p:blipFill>
          <a:blip r:embed="rId5"/>
          <a:stretch/>
        </p:blipFill>
        <p:spPr>
          <a:xfrm>
            <a:off x="6700680" y="333360"/>
            <a:ext cx="2443320" cy="2459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254400" y="3079800"/>
            <a:ext cx="301140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Буд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наш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обу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:\ТК Лаб\ТК по аккр 2014год\заседания ТК ЛАБ 2014 год\23-3-14 .засед ТК ЛАБ и ПК Метрология (17-2-14)\фото 23-3-2014 заседания ТК\CIMG3617.JPG"/>
          <p:cNvPicPr/>
          <p:nvPr/>
        </p:nvPicPr>
        <p:blipFill>
          <a:blip r:embed="rId1"/>
          <a:stretch/>
        </p:blipFill>
        <p:spPr>
          <a:xfrm>
            <a:off x="3276720" y="189000"/>
            <a:ext cx="2519280" cy="2462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:\ТК Лаб\ТК по аккр 2014год\заседания ТК ЛАБ 2014 год\23-3-14 .засед ТК ЛАБ и ПК Метрология (17-2-14)\фото 23-3-2014 заседания ТК\CIMG3637.JPG"/>
          <p:cNvPicPr/>
          <p:nvPr/>
        </p:nvPicPr>
        <p:blipFill>
          <a:blip r:embed="rId2"/>
          <a:stretch/>
        </p:blipFill>
        <p:spPr>
          <a:xfrm>
            <a:off x="250920" y="206280"/>
            <a:ext cx="2881080" cy="244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:\ТК Лаб\ТК по аккр 2014год\заседания ТК ЛАБ 2014 год\23-3-14 .засед ТК ЛАБ и ПК Метрология (17-2-14)\фото 23-3-2014 заседания ТК\CIMG3639.JPG"/>
          <p:cNvPicPr/>
          <p:nvPr/>
        </p:nvPicPr>
        <p:blipFill>
          <a:blip r:embed="rId3"/>
          <a:stretch/>
        </p:blipFill>
        <p:spPr>
          <a:xfrm>
            <a:off x="6140520" y="206280"/>
            <a:ext cx="2611440" cy="24447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F:\обучение тех экспертов\обучение тэ и оценщиков 2014 год\обучение ноябрь 2014 г\фото с обучения\IMG_20141114_120530.jpg"/>
          <p:cNvPicPr/>
          <p:nvPr/>
        </p:nvPicPr>
        <p:blipFill>
          <a:blip r:embed="rId4"/>
          <a:stretch/>
        </p:blipFill>
        <p:spPr>
          <a:xfrm>
            <a:off x="250920" y="2997360"/>
            <a:ext cx="3529080" cy="3598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F:\обучение тех экспертов\обучение тэ и оценщиков 2014 год\обучение ноябрь 2014 г\фото с обучения\IMG_20141114_091035.jpg"/>
          <p:cNvPicPr/>
          <p:nvPr/>
        </p:nvPicPr>
        <p:blipFill>
          <a:blip r:embed="rId5"/>
          <a:stretch/>
        </p:blipFill>
        <p:spPr>
          <a:xfrm>
            <a:off x="3924360" y="3209760"/>
            <a:ext cx="2663640" cy="284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F:\обучение тех экспертов\обучение тэ и оценщиков 2014 год\обучение апрель-май 2014 г\фото\CIMG3668.JPG"/>
          <p:cNvPicPr/>
          <p:nvPr/>
        </p:nvPicPr>
        <p:blipFill>
          <a:blip r:embed="rId6"/>
          <a:stretch/>
        </p:blipFill>
        <p:spPr>
          <a:xfrm>
            <a:off x="6732720" y="3209760"/>
            <a:ext cx="2435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F:\обучение тех экспертов\обучение тэ и оценщиков 2014 год\обучение ноябрь 2014 г\фото с обучения\IMG_20141114_124915.jpg"/>
          <p:cNvPicPr/>
          <p:nvPr/>
        </p:nvPicPr>
        <p:blipFill>
          <a:blip r:embed="rId1"/>
          <a:stretch/>
        </p:blipFill>
        <p:spPr>
          <a:xfrm>
            <a:off x="34920" y="17136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15920" y="3284640"/>
            <a:ext cx="3735360" cy="30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2843280" y="139680"/>
            <a:ext cx="3160800" cy="2766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3816360" cy="301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5"/>
          <a:stretch/>
        </p:blipFill>
        <p:spPr>
          <a:xfrm>
            <a:off x="6134040" y="139680"/>
            <a:ext cx="2987640" cy="27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рган аккредитации, аккредитующие ООС должен отвечать требованиям ГОСТ ИСО/МЭК 17011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и развитие национальной системы аккредитации в соответствии с международной практикой и стандартами, также обеспечение единой государственной политики в области аккредитации ООС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в соответствии с международной практикой и стандартами официального признания технической компетентности ООС в целях создания условий для повышения доверия к ним и создания условий для признания их деятель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  официального признания   компетентности   Координаторов/ Провайдеров програм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и на качество (ПТ)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KCA logo2"/>
          <p:cNvPicPr/>
          <p:nvPr/>
        </p:nvPicPr>
        <p:blipFill>
          <a:blip r:embed="rId6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национальной системе аккредитации в Кыргызской Республике  устанавливает, чт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3.2 Аккредитация органов по оценке соответствия осуществляется в соответствии с принципам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вольност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сти и доступности правил аккредит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тности и беспристрастности органа,     осуществляющего аккредитацию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й системы и единств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  аккредитац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пустимости ограничения конкуренции и создания препятствий для пользования услугами аккредитованных органов по оценке соответствия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я равных условий лицам, претендующим на получение аккредитац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пустимости совмещения в одной организации функций по аккредитации и сертифик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разглашения полученной при аккредитации конфиденциальной информ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енения международных или гармонизированных с международными стандартами требований аккредитац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. 4.4. ПОЛОЖЕНИЯ о национальной системе аккредитации в Кыргызской Республике  устанавливает, чт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ами аккредитации  могут быть следующие  ООС: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продукции (услуг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систем менеджмента  качест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 менеджмента окружающей средой и других систем;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персонал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ытательные /медицинские/ поверочные /калибровочные лаборатор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пектирующие орг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айдеры ПП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8715240" y="6302520"/>
            <a:ext cx="371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15160" y="295200"/>
            <a:ext cx="2797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mbria"/>
              </a:rPr>
              <a:t>Структура К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443720" y="29520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User\Pictures\Безымянный.jpg"/>
          <p:cNvPicPr/>
          <p:nvPr/>
        </p:nvPicPr>
        <p:blipFill>
          <a:blip r:embed="rId2"/>
          <a:stretch/>
        </p:blipFill>
        <p:spPr>
          <a:xfrm>
            <a:off x="328680" y="1027080"/>
            <a:ext cx="8572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2840" y="1581120"/>
          <a:ext cx="8496360" cy="50356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50356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тников КЦ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влеченных специалистов, в том числе: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х оценщиков –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из них 8 из КЦ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щиков –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 </a:t>
                      </a: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области НК-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х экспертов –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,  </a:t>
                      </a: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области НК-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0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сонал К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963720"/>
            <a:ext cx="9144000" cy="152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38040" y="1244520"/>
          <a:ext cx="8496360" cy="5651640"/>
        </p:xfrm>
        <a:graphic>
          <a:graphicData uri="http://schemas.openxmlformats.org/drawingml/2006/table">
            <a:tbl>
              <a:tblPr/>
              <a:tblGrid>
                <a:gridCol w="1535040"/>
                <a:gridCol w="6961320"/>
              </a:tblGrid>
              <a:tr h="565236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лжен иметь комит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К ОО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яет собой установленную КЦА форму сотрудничества технических экспертов по конкретным направлениям деятельности ООС, осуществляемого на добровольной основе в целях проведения работ в области аккредитации ООС  и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ся из представителей, заинтересованных в аккредитации ООС в специальных областях деятельности, по официальному представлению соответствующих министерств, ведомств, организаций. Членами ТК ООС могут быть специалисты, работающие в области оценки соответствия (измерений, испытаний, анализа, контроля и др.) по конкретным направлениям деятельности, являющиеся техническими экспертами в области аккредитации, внесенными в реестр привлекаемых оценщиков и Т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ункция ТК О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асование и принятие рекомендаций по применению международных документов по аккредитации, устанавливающих требования к ООС в специальных областях деятель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требований по подбору специалистов в соответствующих областях деятельности О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54"/>
          <p:cNvSpPr/>
          <p:nvPr/>
        </p:nvSpPr>
        <p:spPr>
          <a:xfrm>
            <a:off x="11916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197000"/>
          <a:ext cx="8712000" cy="330048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11844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8г.-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ТК по аккредитации лабораторий (ТК ЛАБ ) с персональным составом, состоящим 14 специалистов лабораторий различных ведомств, включая 1-председатель, секретариат (Приказ КЦА № 81 от 29.09.2008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160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8г.-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Подкомитет «Неразрушающий контроль» (ПК НК ТК ЛАБ), объединяющий 11  членов из представителей Госинспекции по экологической и технической безопасности при ПКР, Управления регулирования промышленной безопасности Государственного агентства по геологии и минеральным ресурсам при Правительстве КР., Государственного органа, ответственного за радиационной безопасности, государственных и частных лабораторий неразрушающего контроля  на паритетной основе (Приказ КЦА № 81 от 29.09.2008г.).  Назначено ответственное лицо от КЦА за ПК НК ТК ЛАБ (пр. № 91 от 21.05.14 г. с обновление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11240" y="4508640"/>
          <a:ext cx="8708760" cy="2273040"/>
        </p:xfrm>
        <a:graphic>
          <a:graphicData uri="http://schemas.openxmlformats.org/drawingml/2006/table">
            <a:tbl>
              <a:tblPr/>
              <a:tblGrid>
                <a:gridCol w="8708760"/>
              </a:tblGrid>
              <a:tr h="227304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15г.-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ТК по аккредитации органов контроля (ТК ОК ) с персональным составом, состоящим 10 специалистов органов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го управления и контроля различных ведомств (Приказ КЦА № 36 от 12.03.2015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ами ТК ОК  являются представители  Государственного   агентства автомобильного и водного транспорта Министерства транспорта и коммуникаций КР,  Министерства экономики КР, Дорожно – патрульной службы  Министерства внутренних дел  КР, и др. органов государственного управления, также государственных и частных органов контроля  на паритетной основ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5:15:36Z</dcterms:created>
  <dc:creator>User</dc:creator>
  <dc:description/>
  <dc:language>en-US</dc:language>
  <cp:lastModifiedBy>ОАЛ</cp:lastModifiedBy>
  <cp:lastPrinted>2013-11-18T11:35:23Z</cp:lastPrinted>
  <dcterms:modified xsi:type="dcterms:W3CDTF">2015-10-28T08:40:58Z</dcterms:modified>
  <cp:revision>388</cp:revision>
  <dc:subject/>
  <dc:title>Слайд 1</dc:title>
</cp:coreProperties>
</file>